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E5A-6723-4FDC-ACB5-5C8111FB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B74-E2CC-42CF-87D5-AB3BC36B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5BE-A7D2-47D4-940B-D91601E3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FEC-E557-464F-8444-2D296E62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7D1-54D4-47F1-A0E1-FC2C372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DD7-9179-4B14-9B2C-B7288FD7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8D4-45C5-41D4-A4F7-C7E4DB7D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000-12FD-4612-8784-411A7550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0B5-B371-4C37-9006-189973BA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C72-7AF3-430D-BF54-D378BB20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AE6-78EF-4779-A1D6-8138F948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8A6-2984-49B3-A237-A3B2A48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7F79-B2FE-4F64-9DB9-012B4DED6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66ff"/>
                </a:solidFill>
                <a:uFillTx/>
                <a:latin typeface="Times New Roman"/>
              </a:rPr>
              <a:t>Заболеваемость внутрибольничными инфекциями </a:t>
            </a:r>
            <a:br>
              <a:rPr sz="4400"/>
            </a:br>
            <a:r>
              <a:rPr b="1" lang="ru-RU" sz="4400" spc="-1" strike="noStrike" u="sng">
                <a:solidFill>
                  <a:srgbClr val="ff66ff"/>
                </a:solidFill>
                <a:uFillTx/>
                <a:latin typeface="Times New Roman"/>
              </a:rPr>
              <a:t>в ЛПУ Смоленской области</a:t>
            </a:r>
            <a:br>
              <a:rPr sz="4400"/>
            </a:b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Управления Роспотребнадзора по Смоленской области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.Е. Крут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тяжении 8 месяцев 2009 года в стационарах Смоленской области зарегистрировано 69 случаев внутрибольничных инфекционных заболеваний (ВБИ). В структуре ВБИ преобладали ГСИ новорожденных - 24 случая (34,8%), гнойно-септические инфекции родильниц – 14 случаев (20,3%)  и постинъекционные инфекции -14 случаев (20,3%)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8 месяцев 2009 года зарегистрировано 14 случаев ГСИ родильниц, (в 2008 –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людение санитарно-эпидемиологического режима в лечебно-профилактических учреждениях является основным направлением в профилактике внутрибольничных инфе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 выполненных смывов при осуществлении государственного санитарно-эпидемиологического надзора в учреждениях здравоохранения в сравнении с данными за 2007 год увеличилось в 1,9 раз. Удельный вес смывов с неудовлетворительным результатом составил 1,2 %, что в 2 раза больше, чем в 2007 году. При этом значительно увеличился удельный вес неудовлетворительных результатов в хирургических (в 8,5 раза) и родильных (в 3,6 раза) отделения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008 году при осуществлении государственного санитарно-эпидемиологического надзора за стерильностью ИМН число исследованных проб увеличилось по сравнению с уровнем 2007 года в 1,2 раза и составило 4074. Удельный вес проб нестерильных ИМН увеличился в 25 раз и достиг 1,5% - максимального за последние 5 лет знач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проб нестерильных И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09840" y="1038240"/>
          <a:ext cx="6745320" cy="49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038240"/>
                    <a:ext cx="674532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проведения мероприятий по контролю специалистами Управления Роспотребнадзора по Смоленской области выявлены нарушения требований санитарного законодательства: СанПиН 2.1.3.1375-03 «Гигиенические требования к размещению, устройству, оборудованию и эксплуатации больниц, родильных домов и других лечебных стационаров», СП 3.1./3.2. 1379-03 «Общие требования по профилактике инфекционных и паразитарных болезней», СП 3.5.1378-03 «Санитарно-эпидемиологические требования к организации и осуществлению дезинфекционной деятельности», СП 3.1.958-00 «Профилактика вирусных гепатитов. Общие требования к эпидемиологическому надзору за вирусными гепатитами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ьная база ЛПУ Смоле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82520" y="1890720"/>
          <a:ext cx="76089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1890720"/>
                    <a:ext cx="76089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 территории Рославльского района в ММУ «Рославльская ЦРБ» в 2008 году зарегистрирован 1 случай ГСИ родильницы (мастит), за 8 месяцев 2009 года – 1 случай ГСИ новорожденного (пиодерм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лановом мероприятии по контролю в ММУ «Рославльская ЦРБ» (акушерское отделение) в 2008 году выявлены следующие нарушения санитарного законодатель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еспечено ежегодное проведение косметического ремонта в учреждении, имеет место нарушение целостности покрытия стен, полов в операционной, родовых залах, процедурном и прививочном кабинетах, палатах и коридо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замена меб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ывальники не оснащены локтевыми смесителями и дозаторами с моющими средствами и антисептиками для обработки рук мед. персон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ло место нарушение требований при обращении с медицинскими отходами класса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шённой проблемой в организации работы по профилактике ВБИ является низкая достоверность выявления и учёта этих заболеваний. В целях решения этой задачи в 2009 году запланирована надзорная, организационно-методическая, а также информационно-аналитическая деятельность Управления Роспотребнадзора по Смоленск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риска внутрибольничного инфицирования требует также осуществления органами исполнительной власти и местного самоуправления, учреждениями здравоохранения таких мероприятий,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требований санитарного законодательства при проведении лечебно-диагностических манипуля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профессиональной гигиенической подготовки персонала учреждений здравоохранения и гигиенического обучения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спективное планирование строительства ЛПУ, отвечающих современным треб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Российской Федерации основной удельный вес в структуре ВБИ в родовспомогательных учреждениях приходится на гнойно-септические инфекции (ГСИ) – 94 % (2007 г. – 91,0 %). В 2008 г. число зарегистрированных гнойно-септических инфекций (ГСИ) среди новорождённых в лечебно-профилактических учреждениях РФ снизилось по сравнению с 2007 г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0,7 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ель заболеваемости ГСИ новорождённых в 2008 г. составил – 2,79 на 1 000 родившихся живыми (в Смоленской области тот же показатель составил 3,34 на 1000 новорожденны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чина показателя заболеваемости гнойно-септическими инфекциями  родильниц в ЛПУ Смоленской области – 0,1 на 1000 родов, для сравнения: заболеваемость ГСИ родильниц в лечебно-профилактических учреждениях РФ состав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83 на 1 000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3818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ротяжении 2008 года в стационарах Смоленской области зарегистрировано 76 случаев внутрибольничных инфекционных заболеваний (ВБИ), что в 1,3 раза меньше, чем в 2007 году. Величина показателя заболеваемости ВБИ стационарных больных на 1000 пролеченных в стационарах составила 0,24; уровень заболеваемости гнойно-септическими инфекциями (далее – ГСИ) родильниц – 0,1 на 1000 родов; величина заболеваемости послеоперационными инфекциями – 0,1 на 1000 опе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5345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а ВБИ в Смоленской области 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2120" y="685800"/>
          <a:ext cx="75549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5549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а ГСИ новорожденных в 2008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2560" y="1219320"/>
          <a:ext cx="808344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19320"/>
                    <a:ext cx="808344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2008 году среди новорожденных зарегистрировано 105 случаев внутриутробных инфекций (далее – ВУИ). Соотношение ГСИ новорождённых: ВУИ в среднем по области составило 1:3,2; Наиболее неблагоприятное соотношение указанных нозологических форм имело место на терри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Смоленска – 1:9,2., что является неблагополучным показателем, учитывая отсутствие дифференциально-диагностических критериев внутриутробных и внутрибольничных инфекций новорожд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2009 году среди новорожденных зарегистрировано 96 случаев внутриутробных инфе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ношение ГСИ новорождённых:ВУ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76520" y="2971800"/>
          <a:ext cx="559116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559116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удакова</cp:lastModifiedBy>
  <dcterms:modified xsi:type="dcterms:W3CDTF">2009-09-22T11:03:33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